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583-F6E9-44C3-936D-EF6D0B70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085-068C-4DCB-B48C-445F23C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3BA-2190-419C-824E-F48175E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DAF-0E78-4039-9E68-B431F836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4B0-0265-41F9-8F80-C09ED31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6D6-F13A-43B3-B21F-ED55241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3FC-3A65-4399-848D-F4C53964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D9C-990A-40F6-ACBF-413BA2E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5FC-9B7B-485C-A31C-799A866C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209-550A-44C5-8A9F-C8D7455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C60-1AA1-4C97-A828-7193950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BD0-DC97-4102-81B1-741F3C6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845-6D1B-4D8A-84E5-94A2A9E2CDB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135440"/>
            <a:ext cx="5077440" cy="247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Incu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724280"/>
            <a:ext cx="526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y Danielle Qui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263664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I enjoyed the brain incursion beca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move arou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train our left and right side of the brain at the same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touch a lamb’s br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got to do little activity’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hat I’ve learnt about the brai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baby’s, top of the head is very so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869000"/>
            <a:ext cx="2916360" cy="1800000"/>
          </a:xfrm>
          <a:prstGeom prst="cloudCallout">
            <a:avLst>
              <a:gd name="adj1" fmla="val -63935"/>
              <a:gd name="adj2" fmla="val -104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you breathe in and out, slowly, and hold your pulse. It will slow dow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73640"/>
            <a:ext cx="2916360" cy="1584360"/>
          </a:xfrm>
          <a:prstGeom prst="cloudCallout">
            <a:avLst>
              <a:gd name="adj1" fmla="val 41291"/>
              <a:gd name="adj2" fmla="val -136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he right side of your brain controls the left side of your bod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left side of your brain controls the right side of the 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How I felt about the brain incur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15920"/>
            <a:ext cx="2916360" cy="1657440"/>
          </a:xfrm>
          <a:prstGeom prst="cloudCallout">
            <a:avLst>
              <a:gd name="adj1" fmla="val 43250"/>
              <a:gd name="adj2" fmla="val 93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en she showed us the lamb’s brain, I felt a bit si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hen I think about the brain incursion, I feel happy that I don’t have to see picture’s of brain and real life brain’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en we touched the brain,  I felt a bit weir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When she showed us the picture on the white board, with the skull and the pole going into the face, I felt a bit sca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8000" y="2637000"/>
            <a:ext cx="4907160" cy="1143000"/>
          </a:xfrm>
          <a:prstGeom prst="rect">
            <a:avLst/>
          </a:prstGeom>
          <a:noFill/>
          <a:ln w="93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hat I had wondere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15920"/>
            <a:ext cx="2916360" cy="1584360"/>
          </a:xfrm>
          <a:prstGeom prst="cloudCallout">
            <a:avLst>
              <a:gd name="adj1" fmla="val 4325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what kind of things she would do nex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869000"/>
            <a:ext cx="2916360" cy="1584360"/>
          </a:xfrm>
          <a:prstGeom prst="cloudCallout">
            <a:avLst>
              <a:gd name="adj1" fmla="val -63935"/>
              <a:gd name="adj2" fmla="val -111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if she enjoys teaching people about the br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157720"/>
            <a:ext cx="2916360" cy="1584360"/>
          </a:xfrm>
          <a:prstGeom prst="cloudCallout">
            <a:avLst>
              <a:gd name="adj1" fmla="val 46189"/>
              <a:gd name="adj2" fmla="val -12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how long she had been studying the brain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189000"/>
            <a:ext cx="2916360" cy="1584360"/>
          </a:xfrm>
          <a:prstGeom prst="cloudCallout">
            <a:avLst>
              <a:gd name="adj1" fmla="val -65296"/>
              <a:gd name="adj2" fmla="val 91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wondered what the lamb’s brain would feel li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2997360"/>
            <a:ext cx="61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Thank you for watching </a:t>
            </a:r>
            <a:br>
              <a:rPr sz="4000"/>
            </a:b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my Power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350028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57336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0"/>
            <a:ext cx="2448000" cy="2808360"/>
          </a:xfrm>
          <a:prstGeom prst="star5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00:00:50Z</dcterms:created>
  <dc:creator>Philip Quirk</dc:creator>
  <dc:description/>
  <dc:language>en-US</dc:language>
  <cp:lastModifiedBy>Philip Quirk</cp:lastModifiedBy>
  <dcterms:modified xsi:type="dcterms:W3CDTF">2011-05-22T00:41:00Z</dcterms:modified>
  <cp:revision>4</cp:revision>
  <dc:subject/>
  <dc:title>Brain Incursion </dc:title>
</cp:coreProperties>
</file>